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90DD-22AC-4C5A-94DF-DE95348E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E25F-CDB0-4668-9DC4-763710AD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D2B-1081-4AFF-A743-9C00F402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8C1-543A-41ED-B11B-BB7FAD69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8903-B5C2-4E54-9DF8-838C8638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C6E-2145-47CD-ACA2-06D9CE17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3D98-366C-46E0-B43C-56EA68DE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12C9-5863-4DDC-AF24-7E1E81D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10E0-766D-479F-8E41-CAD1BA93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71C5-8839-4D34-99A4-0ECB88EA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D4CE-0560-43AE-99E6-B3BAEB20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C9E-57C5-40D0-8EA2-74099594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2E30-1629-475B-ADCD-E629100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17EF-9D2F-41CA-9AF6-C3A01DEA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8B9E-B9CA-47DD-8E08-85BDB492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0DBF-2AFF-4BA1-AB49-BE5286DE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32F0-4A9F-4B94-969F-0F5BD2FF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AA15-4BDA-4C32-BE2E-6A98A938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2F1D-156B-4930-B9B4-9DE724E0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E4C2-A73D-463D-872B-EF53DB3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A19F-6B57-4003-9E2B-25DAA84B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33FC3-A70E-452B-A770-E07995D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1B-89FA-465F-AB4F-B5238F4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20763-BFEB-4F56-A67F-0039BB2F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1E14-9806-46A6-A961-76277BC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F40EE-B9EB-49AE-B8BD-745A533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F674-46CE-4C92-9CAE-EBF5A6D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566D-25F7-4CB3-A6D0-AC90C068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A992-A5FF-40C1-8D58-E4BA58E2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BF33-0DD7-4D6A-AF09-9BB0D837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B778-1340-471A-8C79-3BC6E99C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234F1-094C-45D3-963F-E2CD475B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98A0-C2C8-40AB-9319-F79D18B7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4A8-0931-48B9-A7D7-C5A47499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FFDE-6742-44CD-9625-4CA263BF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8239-9DD0-465E-9EED-D28864AD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AE4E-2D7A-4C5B-9720-B0DEE895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8C05-16C9-42C8-80FA-BA48D66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98FA-3B26-4DC2-B283-B74C6E6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C1C8-53F0-4B00-9611-EF751BD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3809-F791-46C7-8900-3623B2C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623C6-64F7-4FBA-9239-677E6AAB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BF9B6-F735-4055-9284-5B790485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48767-73AC-4995-9F2B-CCEC266D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6D1-B8B4-40CD-8212-E671EADC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7DACF-4702-4F7C-805E-0049DA1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B23BE-E3ED-4244-8E9D-7EF951D9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F046-D40D-4481-865D-3A563A7A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BA21-DEF8-4263-AC70-1489CB24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51AF2-DA0C-43DA-8116-AC524212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13840-0CBF-4B78-9280-1F5B1BD0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2E373-5E37-4DDB-AD5E-F3F3ABD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7D2E-8746-40E6-8156-2C4B2516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C32F6-5CEE-449A-B7F8-AF9DC9F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E7E1-7655-4467-AE80-AC4B14FB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BC7-FD10-458E-8E12-FABF00D3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89D9-476B-490B-B2C1-7B451BBB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0C6D-B131-48C8-A5FD-9994D00A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6A8D-0484-4038-B9B8-1A55661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7A2C8-A0DD-49BA-8E8E-60428717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DEFAE-9785-4CF8-BFE9-85BACAED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0905-3363-4B56-BF13-99D243E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AF11B-9EF9-4D86-95FA-536ACA5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F4960-B3FA-453F-A14D-3F2A223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43137-2BAF-4E81-84C9-8A85F9A6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342E-8161-4CD7-BE7A-CF893C59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7C8-2B3B-4D11-8B94-F6A10975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ADD3-3BF5-403C-9068-A0D98E9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4C97-A6FA-4E5D-8077-006CDD34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E0EB5-D8EA-4D8E-8E31-E0974C7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E9DFC-380A-4A73-B48A-11332B8A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85C0F-DE20-40F5-8251-142EB23E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989B7-104C-429A-BB78-E1076B93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1120-81FF-4498-872A-E0F246D8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CCF5C-71D4-4EDA-837A-85CFE5F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9871-7D7D-45C0-8D25-66835A3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E2791-8F5C-4FED-B911-32782EE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66B-3D76-439C-BB5D-CC8D11C2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99073-A939-407E-A0C8-5983E2E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FA4DF-AC84-47E5-8184-56CB4EE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B7C6-8521-4FF7-996C-6520594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C82F-EA3B-4DBF-8E7F-73358034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A926-F9D3-4C14-AF17-38C49877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19F-E3F8-40D2-8B13-00704CE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D2FC-121F-456B-8772-96C328C73A5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050-274B-488C-8920-83BA4F353AF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EE97-888D-4434-9197-D92FB75C2A9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2DCD-C52F-460B-B97A-460582F0C1F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7EB9-2C00-4B8B-A23B-A01A5F94D3C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1D4B-5722-4859-8D25-041C3A340A0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DD5-4F88-4167-B5CF-F45FAD025D5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-146160" y="2670120"/>
            <a:ext cx="7150320" cy="3444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6943680" y="1676520"/>
            <a:ext cx="2182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990720" y="1600200"/>
            <a:ext cx="7467480" cy="485028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My Name is Laura Henderson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 am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om – Wife – Sister – Daughter- Daughter in Law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Live in Newburyport , MA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Work at Preferred Mutual Insurance Compan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M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oal is to graduate Cambridge College - Class of 2013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990720" y="1600200"/>
            <a:ext cx="7162560" cy="512460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I Am Passionate  Abou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Friend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Volunteering with a local food pantr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Helping the homeless in my community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Organizing U.S. Navy packing events for the troops overseas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Paint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</a:rPr>
              <a:t>Gourmet Cooking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1"/>
          <p:cNvSpPr/>
          <p:nvPr/>
        </p:nvSpPr>
        <p:spPr>
          <a:xfrm>
            <a:off x="1152360" y="1600200"/>
            <a:ext cx="66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ere You Will Find Me at Leisure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380880" y="2387520"/>
            <a:ext cx="2746440" cy="1181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"/>
          <p:cNvPicPr/>
          <p:nvPr/>
        </p:nvPicPr>
        <p:blipFill>
          <a:blip r:embed="rId2"/>
          <a:stretch/>
        </p:blipFill>
        <p:spPr>
          <a:xfrm>
            <a:off x="6219720" y="502920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7162920" y="4514760"/>
            <a:ext cx="1409760" cy="10288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"/>
          <p:cNvPicPr/>
          <p:nvPr/>
        </p:nvPicPr>
        <p:blipFill>
          <a:blip r:embed="rId4"/>
          <a:srcRect l="0" t="12366" r="0" b="0"/>
          <a:stretch/>
        </p:blipFill>
        <p:spPr>
          <a:xfrm>
            <a:off x="609480" y="3878280"/>
            <a:ext cx="1854360" cy="2411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5"/>
          <a:stretch/>
        </p:blipFill>
        <p:spPr>
          <a:xfrm>
            <a:off x="3243240" y="4335480"/>
            <a:ext cx="2619360" cy="1743120"/>
          </a:xfrm>
          <a:prstGeom prst="rect">
            <a:avLst/>
          </a:prstGeom>
          <a:ln w="0">
            <a:noFill/>
          </a:ln>
        </p:spPr>
      </p:pic>
      <p:grpSp>
        <p:nvGrpSpPr>
          <p:cNvPr id="345" name="TextBox 3"/>
          <p:cNvGrpSpPr/>
          <p:nvPr/>
        </p:nvGrpSpPr>
        <p:grpSpPr>
          <a:xfrm>
            <a:off x="3870360" y="6072120"/>
            <a:ext cx="1201680" cy="620640"/>
            <a:chOff x="3870360" y="6072120"/>
            <a:chExt cx="1201680" cy="620640"/>
          </a:xfrm>
        </p:grpSpPr>
        <p:pic>
          <p:nvPicPr>
            <p:cNvPr id="346" name="TextBox 3" descr=""/>
            <p:cNvPicPr/>
            <p:nvPr/>
          </p:nvPicPr>
          <p:blipFill>
            <a:blip r:embed="rId6"/>
            <a:stretch/>
          </p:blipFill>
          <p:spPr>
            <a:xfrm>
              <a:off x="3870360" y="6072120"/>
              <a:ext cx="12016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940200" y="6141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436b"/>
                  </a:solidFill>
                  <a:latin typeface="Candara"/>
                </a:rPr>
                <a:t> </a:t>
              </a:r>
              <a:r>
                <a:rPr b="1" lang="en-US" sz="1800" spc="-1" strike="noStrike">
                  <a:solidFill>
                    <a:srgbClr val="06436b"/>
                  </a:solidFill>
                  <a:latin typeface="Candara"/>
                </a:rPr>
                <a:t>MAINE</a:t>
              </a: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348" name="Picture 9" descr=""/>
          <p:cNvPicPr/>
          <p:nvPr/>
        </p:nvPicPr>
        <p:blipFill>
          <a:blip r:embed="rId7"/>
          <a:stretch/>
        </p:blipFill>
        <p:spPr>
          <a:xfrm>
            <a:off x="6226200" y="3008160"/>
            <a:ext cx="2157480" cy="14367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6477120" y="2666880"/>
            <a:ext cx="2438280" cy="642600"/>
          </a:xfrm>
          <a:prstGeom prst="rect">
            <a:avLst/>
          </a:prstGeom>
          <a:solidFill>
            <a:srgbClr val="5bd07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ndara"/>
              </a:rPr>
              <a:t>Mountain Bike Riding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0" name="Picture 13" descr=""/>
          <p:cNvPicPr/>
          <p:nvPr/>
        </p:nvPicPr>
        <p:blipFill>
          <a:blip r:embed="rId8"/>
          <a:stretch/>
        </p:blipFill>
        <p:spPr>
          <a:xfrm>
            <a:off x="3251160" y="2421000"/>
            <a:ext cx="1271520" cy="1373040"/>
          </a:xfrm>
          <a:prstGeom prst="rect">
            <a:avLst/>
          </a:prstGeom>
          <a:ln w="0">
            <a:noFill/>
          </a:ln>
        </p:spPr>
      </p:pic>
      <p:sp>
        <p:nvSpPr>
          <p:cNvPr id="351" name="TextBox 7"/>
          <p:cNvSpPr/>
          <p:nvPr/>
        </p:nvSpPr>
        <p:spPr>
          <a:xfrm>
            <a:off x="3965400" y="3914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2" name="Rectangle 10" descr=""/>
          <p:cNvPicPr/>
          <p:nvPr/>
        </p:nvPicPr>
        <p:blipFill>
          <a:blip r:embed="rId9"/>
          <a:stretch/>
        </p:blipFill>
        <p:spPr>
          <a:xfrm>
            <a:off x="3157560" y="3292560"/>
            <a:ext cx="1444680" cy="560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5" descr=""/>
          <p:cNvPicPr/>
          <p:nvPr/>
        </p:nvPicPr>
        <p:blipFill>
          <a:blip r:embed="rId10"/>
          <a:stretch/>
        </p:blipFill>
        <p:spPr>
          <a:xfrm>
            <a:off x="4726080" y="2627280"/>
            <a:ext cx="1136520" cy="1655640"/>
          </a:xfrm>
          <a:prstGeom prst="rect">
            <a:avLst/>
          </a:prstGeom>
          <a:ln w="0">
            <a:noFill/>
          </a:ln>
        </p:spPr>
      </p:pic>
      <p:sp>
        <p:nvSpPr>
          <p:cNvPr id="354" name="TextBox 11"/>
          <p:cNvSpPr/>
          <p:nvPr/>
        </p:nvSpPr>
        <p:spPr>
          <a:xfrm rot="20277600">
            <a:off x="4782240" y="2978280"/>
            <a:ext cx="147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norkel Jamaica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5"/>
          <p:cNvSpPr/>
          <p:nvPr/>
        </p:nvSpPr>
        <p:spPr>
          <a:xfrm>
            <a:off x="914400" y="803160"/>
            <a:ext cx="7120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Most Proud Of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603360" y="3492360"/>
            <a:ext cx="3340080" cy="325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158760" y="1073160"/>
            <a:ext cx="2803680" cy="2004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534000" y="3181320"/>
            <a:ext cx="2702160" cy="3878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4"/>
          <a:stretch/>
        </p:blipFill>
        <p:spPr>
          <a:xfrm>
            <a:off x="7007400" y="1730520"/>
            <a:ext cx="1904760" cy="1557360"/>
          </a:xfrm>
          <a:prstGeom prst="rect">
            <a:avLst/>
          </a:prstGeom>
          <a:ln w="57240">
            <a:solidFill>
              <a:srgbClr val="ffd54f"/>
            </a:solidFill>
            <a:miter/>
          </a:ln>
        </p:spPr>
      </p:pic>
      <p:sp>
        <p:nvSpPr>
          <p:cNvPr id="360" name="TextBox 7"/>
          <p:cNvSpPr/>
          <p:nvPr/>
        </p:nvSpPr>
        <p:spPr>
          <a:xfrm>
            <a:off x="2937960" y="1730520"/>
            <a:ext cx="387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HN Matthew Henders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U.S. Navy Hospital Corpsma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Patuxent River Naval Air Station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Naval Health Clinic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Patuxent River, MD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5"/>
          <a:stretch/>
        </p:blipFill>
        <p:spPr>
          <a:xfrm>
            <a:off x="4175280" y="3962520"/>
            <a:ext cx="17874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0:24:05Z</dcterms:created>
  <dc:creator>ULJH2</dc:creator>
  <dc:description/>
  <dc:language>en-US</dc:language>
  <cp:lastModifiedBy>ULJH2</cp:lastModifiedBy>
  <dcterms:modified xsi:type="dcterms:W3CDTF">2012-03-25T02:17:49Z</dcterms:modified>
  <cp:revision>8</cp:revision>
  <dc:subject/>
  <dc:title>PowerPoint Presentation</dc:title>
</cp:coreProperties>
</file>